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44B3-80B0-4DE0-BC6A-87C3B734AD9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4555-ECC3-47BF-910F-155F5A4D9B0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0A1C-4683-4C75-B319-E7367AE86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0028-D31A-4E9E-A21A-609C62DB12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9962-6E22-4794-9BA4-CACFE5110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57D1-AF0F-40C8-8EF9-FAFFC80F8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0693-F38C-49BE-8A66-7E4B4616F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D03A-C6E8-4F94-B2E6-A1622F0B4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A25F-0BEF-4C60-BE65-AF8D3BEB9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7759-CCAF-44E8-AB8A-49FDC3549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52B3-BCD5-462F-9AD2-FB00CB40A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0598-B483-48D5-BB42-ABABE6291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6761-9742-49EF-BBD6-6FD0B4D6C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8A54-100F-4FF6-A1B0-58D4A4B70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F259-E6A1-4E25-B92B-98DEC30320B4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0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  <p:grpSp>
        <p:nvGrpSpPr>
          <p:cNvPr id="41" name="Grupo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tângulo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tângulo 7"/>
            <p:cNvSpPr/>
            <p:nvPr/>
          </p:nvSpPr>
          <p:spPr>
            <a:xfrm>
              <a:off x="1908000" y="907920"/>
              <a:ext cx="6696000" cy="5042160"/>
            </a:xfrm>
            <a:prstGeom prst="rect">
              <a:avLst/>
            </a:prstGeom>
            <a:solidFill>
              <a:srgbClr val="f2e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Imagem 2" descr=""/>
            <p:cNvPicPr/>
            <p:nvPr/>
          </p:nvPicPr>
          <p:blipFill>
            <a:blip r:embed="rId4"/>
            <a:stretch/>
          </p:blipFill>
          <p:spPr>
            <a:xfrm>
              <a:off x="6693840" y="1484640"/>
              <a:ext cx="151272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ique para editar o nome do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Clique para editar o cargo do a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que para editar local 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rcRect l="0" t="0" r="0" b="2267"/>
          <a:stretch/>
        </p:blipFill>
        <p:spPr>
          <a:xfrm>
            <a:off x="1692360" y="898560"/>
            <a:ext cx="7094520" cy="5122800"/>
          </a:xfrm>
          <a:prstGeom prst="rect">
            <a:avLst/>
          </a:prstGeom>
          <a:ln w="0">
            <a:noFill/>
          </a:ln>
        </p:spPr>
      </p:pic>
      <p:sp>
        <p:nvSpPr>
          <p:cNvPr id="93" name="Título 1"/>
          <p:cNvSpPr/>
          <p:nvPr/>
        </p:nvSpPr>
        <p:spPr>
          <a:xfrm>
            <a:off x="1905120" y="2724120"/>
            <a:ext cx="62989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99"/>
                </a:solidFill>
                <a:latin typeface="Arial"/>
              </a:rPr>
              <a:t>MONITORAMENTO DO  POOL DE R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99"/>
                </a:solidFill>
                <a:latin typeface="Arial"/>
              </a:rPr>
              <a:t>2015/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ítulo 1"/>
          <p:cNvSpPr/>
          <p:nvPr/>
        </p:nvSpPr>
        <p:spPr>
          <a:xfrm>
            <a:off x="1919160" y="4437000"/>
            <a:ext cx="629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ítulo 1"/>
          <p:cNvSpPr/>
          <p:nvPr/>
        </p:nvSpPr>
        <p:spPr>
          <a:xfrm>
            <a:off x="5654520" y="4757760"/>
            <a:ext cx="2581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GEFAP/GGREP/DI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ítulo 1"/>
          <p:cNvSpPr/>
          <p:nvPr/>
        </p:nvSpPr>
        <p:spPr>
          <a:xfrm>
            <a:off x="1933560" y="5446800"/>
            <a:ext cx="6299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Informe Reunião da Diretoria Colegiada – Julho d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agem 1" descr=""/>
          <p:cNvPicPr/>
          <p:nvPr/>
        </p:nvPicPr>
        <p:blipFill>
          <a:blip r:embed="rId2"/>
          <a:stretch/>
        </p:blipFill>
        <p:spPr>
          <a:xfrm>
            <a:off x="5364000" y="1590840"/>
            <a:ext cx="2868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BB6B-334D-44D2-A66B-190BAF79698D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ítulo 1"/>
          <p:cNvSpPr/>
          <p:nvPr/>
        </p:nvSpPr>
        <p:spPr>
          <a:xfrm>
            <a:off x="611280" y="1341360"/>
            <a:ext cx="6557760" cy="2016360"/>
          </a:xfrm>
          <a:prstGeom prst="rect">
            <a:avLst/>
          </a:prstGeom>
          <a:noFill/>
          <a:ln w="1260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O que 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eajuste Anual dos planos coletivos inseridos no “Pool de Risco”: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reajuste único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calculado através do agrupamento de todos os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contratos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com até 30 (trinta) beneficiários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de uma mesma operad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Reajuste - Agrupamento de Contra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RN nº 309/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ixaDeTexto 1"/>
          <p:cNvSpPr/>
          <p:nvPr/>
        </p:nvSpPr>
        <p:spPr>
          <a:xfrm>
            <a:off x="611280" y="3838680"/>
            <a:ext cx="6553080" cy="2111400"/>
          </a:xfrm>
          <a:prstGeom prst="rect">
            <a:avLst/>
          </a:prstGeom>
          <a:noFill/>
          <a:ln w="1260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Diluir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entre os pequenos contratos a variação dos custos assistenciais auferida no ano anterior entre os diversos contratos agrup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D8AD-AAD7-45C6-A997-70B7FD875E5E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ítulo 1"/>
          <p:cNvSpPr/>
          <p:nvPr/>
        </p:nvSpPr>
        <p:spPr>
          <a:xfrm>
            <a:off x="611280" y="1341360"/>
            <a:ext cx="5113080" cy="1238400"/>
          </a:xfrm>
          <a:prstGeom prst="rect">
            <a:avLst/>
          </a:prstGeom>
          <a:noFill/>
          <a:ln w="1260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O que 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esquisa encaminhada às OPS para informação do reajuste aplicado aos contratos agrup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Monitoramento - Agrupamento de Contra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ixaDeTexto 1"/>
          <p:cNvSpPr/>
          <p:nvPr/>
        </p:nvSpPr>
        <p:spPr>
          <a:xfrm>
            <a:off x="611280" y="2954160"/>
            <a:ext cx="5113080" cy="893880"/>
          </a:xfrm>
          <a:prstGeom prst="rect">
            <a:avLst/>
          </a:prstGeom>
          <a:noFill/>
          <a:ln w="1260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Verificar a eficácia da aplicação da RN nº 309/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ixaDeTexto 8"/>
          <p:cNvSpPr/>
          <p:nvPr/>
        </p:nvSpPr>
        <p:spPr>
          <a:xfrm>
            <a:off x="644400" y="4255920"/>
            <a:ext cx="5079960" cy="2062440"/>
          </a:xfrm>
          <a:prstGeom prst="rect">
            <a:avLst/>
          </a:prstGeom>
          <a:noFill/>
          <a:ln w="1260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For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esquisa FormSU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odas as operadoras com beneficiários em planos coletiv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Terceiro ano de monitor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1B57-F5DE-41DB-AABA-836EBA3E492E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Pesquisa FormS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Gráfico 37" descr=""/>
          <p:cNvPicPr/>
          <p:nvPr/>
        </p:nvPicPr>
        <p:blipFill>
          <a:blip r:embed="rId1"/>
          <a:stretch/>
        </p:blipFill>
        <p:spPr>
          <a:xfrm>
            <a:off x="317520" y="1785960"/>
            <a:ext cx="6778440" cy="4151160"/>
          </a:xfrm>
          <a:prstGeom prst="rect">
            <a:avLst/>
          </a:prstGeom>
          <a:ln w="0">
            <a:noFill/>
          </a:ln>
        </p:spPr>
      </p:pic>
      <p:sp>
        <p:nvSpPr>
          <p:cNvPr id="110" name="CaixaDeTexto 15"/>
          <p:cNvSpPr/>
          <p:nvPr/>
        </p:nvSpPr>
        <p:spPr>
          <a:xfrm>
            <a:off x="395280" y="1198440"/>
            <a:ext cx="3313080" cy="4287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Critério de amostragem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Pesquisa FormS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ixaDeTexto 15"/>
          <p:cNvSpPr/>
          <p:nvPr/>
        </p:nvSpPr>
        <p:spPr>
          <a:xfrm>
            <a:off x="3708360" y="1630440"/>
            <a:ext cx="3240000" cy="4287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Pesquisa FormS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ângulo 41"/>
          <p:cNvSpPr/>
          <p:nvPr/>
        </p:nvSpPr>
        <p:spPr>
          <a:xfrm>
            <a:off x="7236000" y="3860640"/>
            <a:ext cx="1731960" cy="257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Único    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ângulo 42"/>
          <p:cNvSpPr/>
          <p:nvPr/>
        </p:nvSpPr>
        <p:spPr>
          <a:xfrm>
            <a:off x="7240680" y="4348080"/>
            <a:ext cx="1724040" cy="247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ubagrupado    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eta para a direita 43"/>
          <p:cNvSpPr/>
          <p:nvPr/>
        </p:nvSpPr>
        <p:spPr>
          <a:xfrm>
            <a:off x="8051760" y="3963960"/>
            <a:ext cx="244440" cy="8100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eta para a direita 44"/>
          <p:cNvSpPr/>
          <p:nvPr/>
        </p:nvSpPr>
        <p:spPr>
          <a:xfrm>
            <a:off x="8431200" y="4452840"/>
            <a:ext cx="241200" cy="79560"/>
          </a:xfrm>
          <a:prstGeom prst="rightArrow">
            <a:avLst>
              <a:gd name="adj1" fmla="val 50000"/>
              <a:gd name="adj2" fmla="val 498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have esquerda 45"/>
          <p:cNvSpPr/>
          <p:nvPr/>
        </p:nvSpPr>
        <p:spPr>
          <a:xfrm>
            <a:off x="7020000" y="3865680"/>
            <a:ext cx="144360" cy="730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730080"/>
              <a:gd name="textAreaBottom" fmla="*/ 726480 h 73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8"/>
                  <a:pt x="10800" y="356"/>
                </a:cubicBezTo>
                <a:lnTo>
                  <a:pt x="10800" y="10444"/>
                </a:lnTo>
                <a:cubicBezTo>
                  <a:pt x="10800" y="10622"/>
                  <a:pt x="5400" y="10800"/>
                  <a:pt x="0" y="10800"/>
                </a:cubicBezTo>
                <a:cubicBezTo>
                  <a:pt x="5400" y="10800"/>
                  <a:pt x="10800" y="10978"/>
                  <a:pt x="10800" y="11156"/>
                </a:cubicBezTo>
                <a:lnTo>
                  <a:pt x="10800" y="21244"/>
                </a:lnTo>
                <a:cubicBezTo>
                  <a:pt x="10800" y="2142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ixaDeTexto 5"/>
          <p:cNvSpPr/>
          <p:nvPr/>
        </p:nvSpPr>
        <p:spPr>
          <a:xfrm>
            <a:off x="7372440" y="3468600"/>
            <a:ext cx="14587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6699"/>
                </a:solidFill>
                <a:latin typeface="Arial"/>
              </a:rPr>
              <a:t>Reajuste do P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áfico 14" descr=""/>
          <p:cNvPicPr/>
          <p:nvPr/>
        </p:nvPicPr>
        <p:blipFill>
          <a:blip r:embed="rId2"/>
          <a:stretch/>
        </p:blipFill>
        <p:spPr>
          <a:xfrm>
            <a:off x="139680" y="1785960"/>
            <a:ext cx="70470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B5B5-79AA-46C2-84BA-B0C9F0161CDA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Constatações do Monito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ixaDeTexto 5"/>
          <p:cNvSpPr/>
          <p:nvPr/>
        </p:nvSpPr>
        <p:spPr>
          <a:xfrm>
            <a:off x="503280" y="1332000"/>
            <a:ext cx="81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is de 10% dos beneficiários dos planos coletivos estão no Pool de Risco. Havia 38.864.147 beneficiários em planos coletivos em 05/201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92,27% dos beneficiários do Agrupamento de Contratos receberam um reajuste menor que 20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período da pesquisa, a quantidade de contratos diminuiu, com isso a média de beneficiários por contrato aumentou de 4,91 para 5,2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7,12% das operadoras usaram o índice da ANS para aplicar o reajuste do Pool de Risco. Esse número foi maior do que na pesquisa do ano passado, que foi de 15,1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roporção de beneficiários que receberam reajuste menor ou igual ao do índice da ANS aumentou de 16,4% para 29,01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D897-A9ED-4340-ABF1-9F4A722AA604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ítulo 1"/>
          <p:cNvSpPr/>
          <p:nvPr/>
        </p:nvSpPr>
        <p:spPr>
          <a:xfrm>
            <a:off x="0" y="1268280"/>
            <a:ext cx="916776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Obrigad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www.ans.gov.br | Disque ANS: 0800 701 96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P:\Comunicacao Social\Trabalhos\2014\SAS 0004_2014 - Criação e atualização da identidade visual nas redes sociais\design\icone vetor para midia siocial\icone_fb.jpg"/>
          <p:cNvPicPr/>
          <p:nvPr/>
        </p:nvPicPr>
        <p:blipFill>
          <a:blip r:embed="rId1"/>
          <a:stretch/>
        </p:blipFill>
        <p:spPr>
          <a:xfrm>
            <a:off x="49212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25" name="CaixaDeTexto 1"/>
          <p:cNvSpPr/>
          <p:nvPr/>
        </p:nvSpPr>
        <p:spPr>
          <a:xfrm>
            <a:off x="1069200" y="36450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.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P:\Comunicacao Social\Trabalhos\2014\SAS 0004_2014 - Criação e atualização da identidade visual nas redes sociais\design\icone vetor para midia siocial\icone_twitter.jpg"/>
          <p:cNvPicPr/>
          <p:nvPr/>
        </p:nvPicPr>
        <p:blipFill>
          <a:blip r:embed="rId2"/>
          <a:stretch/>
        </p:blipFill>
        <p:spPr>
          <a:xfrm>
            <a:off x="257976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27" name="CaixaDeTexto 12"/>
          <p:cNvSpPr/>
          <p:nvPr/>
        </p:nvSpPr>
        <p:spPr>
          <a:xfrm>
            <a:off x="3103560" y="364644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@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P:\Comunicacao Social\Trabalhos\2014\SAS 0004_2014 - Criação e atualização da identidade visual nas redes sociais\design\icone vetor para midia siocial\icone_youtube.jpg"/>
          <p:cNvPicPr/>
          <p:nvPr/>
        </p:nvPicPr>
        <p:blipFill>
          <a:blip r:embed="rId3"/>
          <a:stretch/>
        </p:blipFill>
        <p:spPr>
          <a:xfrm>
            <a:off x="4956120" y="3500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29" name="CaixaDeTexto 3"/>
          <p:cNvSpPr/>
          <p:nvPr/>
        </p:nvSpPr>
        <p:spPr>
          <a:xfrm>
            <a:off x="5532480" y="36482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"/>
          <p:cNvPicPr/>
          <p:nvPr/>
        </p:nvPicPr>
        <p:blipFill>
          <a:blip r:embed="rId4"/>
          <a:srcRect l="14441" t="16424" r="15237" b="17661"/>
          <a:stretch/>
        </p:blipFill>
        <p:spPr>
          <a:xfrm>
            <a:off x="6948360" y="3500280"/>
            <a:ext cx="679680" cy="636840"/>
          </a:xfrm>
          <a:prstGeom prst="rect">
            <a:avLst/>
          </a:prstGeom>
          <a:ln w="0">
            <a:noFill/>
          </a:ln>
        </p:spPr>
      </p:pic>
      <p:sp>
        <p:nvSpPr>
          <p:cNvPr id="131" name="CaixaDeTexto 1"/>
          <p:cNvSpPr/>
          <p:nvPr/>
        </p:nvSpPr>
        <p:spPr>
          <a:xfrm>
            <a:off x="7558560" y="366084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Imagem 1" descr=""/>
          <p:cNvPicPr/>
          <p:nvPr/>
        </p:nvPicPr>
        <p:blipFill>
          <a:blip r:embed="rId5"/>
          <a:stretch/>
        </p:blipFill>
        <p:spPr>
          <a:xfrm>
            <a:off x="1903320" y="5145120"/>
            <a:ext cx="5302440" cy="515880"/>
          </a:xfrm>
          <a:prstGeom prst="rect">
            <a:avLst/>
          </a:prstGeom>
          <a:ln w="0">
            <a:noFill/>
          </a:ln>
        </p:spPr>
      </p:pic>
      <p:pic>
        <p:nvPicPr>
          <p:cNvPr id="133" name="Imagem 1" descr=""/>
          <p:cNvPicPr/>
          <p:nvPr/>
        </p:nvPicPr>
        <p:blipFill>
          <a:blip r:embed="rId6"/>
          <a:stretch/>
        </p:blipFill>
        <p:spPr>
          <a:xfrm>
            <a:off x="1981080" y="4919760"/>
            <a:ext cx="557208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Carla de Figueiredo Soares</cp:lastModifiedBy>
  <dcterms:modified xsi:type="dcterms:W3CDTF">2016-07-07T22:19:00Z</dcterms:modified>
  <cp:revision>269</cp:revision>
  <dc:subject/>
  <dc:title>Slide 1</dc:title>
</cp:coreProperties>
</file>